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4F2F6-D469-4EF1-A72B-F7C90592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8FC67-8158-4297-A151-5115A3B6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7C322-004B-4407-A424-4442EC27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504F7-0229-4411-8F31-F54B88A4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F533C-62A2-4B1A-AA6B-2AA63490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63A2A-A1AA-48C9-967C-CD62B4DF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5563D-B8D7-4C39-9AB1-A68E7D7F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B6D11-2A47-4E5A-B435-37F1AE6A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63692-5AC7-48BB-B5AA-C054B42A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4A6AD-AA0A-4AC8-A7C6-A4476E84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27BF1-57AA-4624-A1A1-EB3E3154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A9C73-FFE6-45D5-B597-B6D014B3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8229600" y="594360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9436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9587-730B-4ECA-B9BC-C680467D1C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Antonio Holgad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anto, cómo, dónde, con quien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O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 críticos, problemas y supues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31760" y="1905120"/>
            <a:ext cx="6120000" cy="3306600"/>
            <a:chOff x="1031760" y="1905120"/>
            <a:chExt cx="6120000" cy="3306600"/>
          </a:xfrm>
        </p:grpSpPr>
        <p:sp>
          <p:nvSpPr>
            <p:cNvPr id="141" name=""/>
            <p:cNvSpPr/>
            <p:nvPr/>
          </p:nvSpPr>
          <p:spPr>
            <a:xfrm>
              <a:off x="1031760" y="520704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31760" y="312408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31760" y="416556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26200" y="1917720"/>
              <a:ext cx="4179600" cy="3294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82840" y="1905120"/>
              <a:ext cx="2860560" cy="2255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39120" y="1905120"/>
              <a:ext cx="1547640" cy="121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55680" y="2514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2920" y="3352680"/>
              <a:ext cx="15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49200" y="42670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12920" y="231156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 </cp:lastModifiedBy>
  <dcterms:modified xsi:type="dcterms:W3CDTF">2005-05-18T16:01:04Z</dcterms:modified>
  <cp:revision>12</cp:revision>
  <dc:subject/>
  <dc:title>Modelo de Negocios</dc:title>
</cp:coreProperties>
</file>